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6D8-2138-4B6C-9BD6-E445435B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679-51DE-49A4-BC20-73E7245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DD8-6F39-475E-A8F6-5490EF74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040-BD37-458E-95CE-1EDB6411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DE7-F45C-4049-9862-266F9B1D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1ADB-A490-489D-BE3E-620464A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E17A-BC87-4086-A56F-EDF7D18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A5E-6E00-4D73-B3E0-31C864A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835-156F-433A-BC5E-1EDBFD0D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981-BC2A-47FA-BBC1-E9606B2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F024-5F78-4606-94C4-53F1BC8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F1E-B4D5-4A9C-9EDD-915A533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844B-CCF7-46BC-ACCC-B494C2B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992-6554-4080-81A9-523DBC7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537-CC42-439D-A5C5-0BF31842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42F-9A5A-4F56-888A-40E274FF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92BE-80CF-4F60-8E5E-F23B652C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9EC-BF96-4B9B-A36C-FEFF9C04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955-99C8-4842-A119-0529538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075-54BC-4273-AAE5-9019E25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E8C-4951-46C3-B2AE-B19659A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604-1A92-4E6C-95E9-DFB8BBF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D0C-D0FE-4B0E-9F2A-0E65A16B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60C-7225-4FBD-ADDA-940BFBF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217-7B81-46A8-BD9D-3D3F8B38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6F1-2194-4571-8D61-38550ACE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693396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Root Anato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ibrous 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ystem that has 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ant primary root b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made of many prim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econdary root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 on monocot pl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grasses, pans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annual fl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184"/>
          <p:cNvPicPr/>
          <p:nvPr/>
        </p:nvPicPr>
        <p:blipFill>
          <a:blip r:embed="rId1"/>
          <a:stretch/>
        </p:blipFill>
        <p:spPr>
          <a:xfrm>
            <a:off x="5638680" y="1841400"/>
            <a:ext cx="3200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6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does a healthy root system look like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ealthy root system is white or nearly white in color and smells fres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roots are black, brown, or dark orange and smell rotten or sour, the root system is having some probl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a plant growing outside has a majority of roots in only the top two feet of soil, a plant in a pot should have its roots evenly dispersed throughout the soil in the p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76320"/>
            <a:ext cx="7162920" cy="31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the functions of roots in pl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parts of a ro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fferentiate the two major types of root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the health of a roo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anchor the plant to the ground and support the above ground part of the pl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store food that has been made through photosynthesi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food can be used later when a plant needs it to grow or surv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3581280" y="4267080"/>
            <a:ext cx="4483080" cy="2886120"/>
            <a:chOff x="3581280" y="4267080"/>
            <a:chExt cx="4483080" cy="2886120"/>
          </a:xfrm>
        </p:grpSpPr>
        <p:pic>
          <p:nvPicPr>
            <p:cNvPr id="90" name="Picture 5" descr="174"/>
            <p:cNvPicPr/>
            <p:nvPr/>
          </p:nvPicPr>
          <p:blipFill>
            <a:blip r:embed="rId1"/>
            <a:stretch/>
          </p:blipFill>
          <p:spPr>
            <a:xfrm>
              <a:off x="5867280" y="4267080"/>
              <a:ext cx="2197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175"/>
            <p:cNvPicPr/>
            <p:nvPr/>
          </p:nvPicPr>
          <p:blipFill>
            <a:blip r:embed="rId2"/>
            <a:stretch/>
          </p:blipFill>
          <p:spPr>
            <a:xfrm>
              <a:off x="3581280" y="4724280"/>
              <a:ext cx="163368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change of g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linked to healthy roo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ercentage of pores in soil provides good a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176"/>
          <p:cNvPicPr/>
          <p:nvPr/>
        </p:nvPicPr>
        <p:blipFill>
          <a:blip r:embed="rId1"/>
          <a:stretch/>
        </p:blipFill>
        <p:spPr>
          <a:xfrm>
            <a:off x="5410080" y="3425760"/>
            <a:ext cx="2616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need to be constantly growing in order to stay healt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roots are weak or diseased, the whole plant has difficul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177"/>
          <p:cNvPicPr/>
          <p:nvPr/>
        </p:nvPicPr>
        <p:blipFill>
          <a:blip r:embed="rId1"/>
          <a:stretch/>
        </p:blipFill>
        <p:spPr>
          <a:xfrm>
            <a:off x="2590920" y="3733920"/>
            <a:ext cx="3809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il moisture plays a significant role in root system healt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vailable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er that can be absorbed by the plant ro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Unavailable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 film of water that binds tightly to the soil 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not be used by the pl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ater-holding capa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bility of soils to hold wat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parts of a roo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rimary roo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tructure to emerge from the s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important root in the whole roo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178"/>
          <p:cNvPicPr/>
          <p:nvPr/>
        </p:nvPicPr>
        <p:blipFill>
          <a:blip r:embed="rId1"/>
          <a:stretch/>
        </p:blipFill>
        <p:spPr>
          <a:xfrm>
            <a:off x="3235320" y="2895480"/>
            <a:ext cx="339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parts of a roo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econdary ro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roots branching out from the primary ro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cells develop at the tip of the r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easily damag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ed by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oot 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piderm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cells on the surface of the r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the water and minerals en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t through osmosis and diff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oot h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ongated epidermis cell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ly increase the surface area of the roo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180"/>
          <p:cNvPicPr/>
          <p:nvPr/>
        </p:nvPicPr>
        <p:blipFill>
          <a:blip r:embed="rId1"/>
          <a:stretch/>
        </p:blipFill>
        <p:spPr>
          <a:xfrm>
            <a:off x="7010280" y="3117960"/>
            <a:ext cx="2084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p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oot system composed of one main primary root and many secondary roots branching 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dicot plants have taproot syste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taproot include radishes, beets, and carr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1219320" y="3886200"/>
            <a:ext cx="7033320" cy="2894760"/>
            <a:chOff x="1219320" y="3886200"/>
            <a:chExt cx="7033320" cy="2894760"/>
          </a:xfrm>
        </p:grpSpPr>
        <p:pic>
          <p:nvPicPr>
            <p:cNvPr id="109" name="Picture 5" descr="183"/>
            <p:cNvPicPr/>
            <p:nvPr/>
          </p:nvPicPr>
          <p:blipFill>
            <a:blip r:embed="rId1"/>
            <a:stretch/>
          </p:blipFill>
          <p:spPr>
            <a:xfrm>
              <a:off x="3726000" y="3886200"/>
              <a:ext cx="1860480" cy="28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181"/>
            <p:cNvPicPr/>
            <p:nvPr/>
          </p:nvPicPr>
          <p:blipFill>
            <a:blip r:embed="rId2"/>
            <a:stretch/>
          </p:blipFill>
          <p:spPr>
            <a:xfrm>
              <a:off x="5968440" y="4228200"/>
              <a:ext cx="2284200" cy="23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182"/>
            <p:cNvPicPr/>
            <p:nvPr/>
          </p:nvPicPr>
          <p:blipFill>
            <a:blip r:embed="rId3"/>
            <a:stretch/>
          </p:blipFill>
          <p:spPr>
            <a:xfrm>
              <a:off x="1219320" y="4010400"/>
              <a:ext cx="2044800" cy="23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8:38:10Z</dcterms:created>
  <dc:creator>Lindi Kocher</dc:creator>
  <dc:description/>
  <cp:keywords/>
  <dc:language>en-US</dc:language>
  <cp:lastModifiedBy>Alicia Burge</cp:lastModifiedBy>
  <dcterms:modified xsi:type="dcterms:W3CDTF">2011-03-08T03:16:40Z</dcterms:modified>
  <cp:revision>36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